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0497-A425-4045-A057-3566AAB8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D513-8756-4E0A-9E72-1CCB4F35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6475-91C2-41AD-88A7-01DE6E4C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2AF4-7D6D-49C2-B4F9-96320F51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78B2-EC1C-43F1-B804-981CB120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9E92-26DE-40CE-9363-9E283B7F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5419-8EC4-4304-AD8B-5B086DD5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59E5-72BA-43EE-9BA3-065961B9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DF01-4238-4474-94FF-51A12D8B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4FCE-09D4-4A1F-BF3C-5DDF81F7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4DC2-F409-40F4-81D6-AEE38751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3A85C-E7EE-4896-9D05-E68FF3CF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6D45-ED17-4C92-B622-A560177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0DE2-0C55-446C-AAB6-10EE9C49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C616-7FD7-4728-9D13-96A99C37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EBFD-64AA-4C61-89A2-85E2768F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2D1C-ACC4-4170-83E2-93703097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CFFC-9B44-4E70-AB4F-A8617D7D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70EB-EC9B-4D01-856E-234A8309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DB23-F016-4915-9DAA-549B293F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90E4-5CBE-4A66-90F7-9A0BA091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F882-3616-45BA-B6AF-C811F86A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1186-79CA-4939-A1FF-715D064A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5E91-6111-463F-83BE-11A5C2C4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109B-4DDD-4784-A71D-F3CCB8950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2E27-5A76-4A39-8B02-8DF6FC5C597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EAEC-F1E2-4AE8-9F66-55EE5B6FFF1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6CF7-F7C3-43ED-AE35-27FD5D9FB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F0A2-108E-4CB2-820F-5ECFD615E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33E4-587E-498A-B162-53C78C19AE29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F69B-6610-47E8-B29A-BE2C2DCFB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FD96-828C-4A57-9D35-66A671B478A8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596F-DE14-4B59-9E31-1B8EB1E2F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1F32-4930-47FA-8F93-BEAE652035B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Bevel 9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944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590920" y="45720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apter 8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Minus 12"/>
          <p:cNvSpPr/>
          <p:nvPr/>
        </p:nvSpPr>
        <p:spPr>
          <a:xfrm>
            <a:off x="2666880" y="1219320"/>
            <a:ext cx="3657600" cy="30456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28600" y="4952880"/>
            <a:ext cx="8686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eriods for lecture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omestudy: 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380880" y="1905120"/>
            <a:ext cx="8382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THE PROCESS OF PREPARING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AND ISSUING DOCUMENTS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Tòa án Hiến pháp Liên bang Đức</a:t>
            </a:r>
            <a:br>
              <a:rPr sz="3600"/>
            </a:b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(Das Bundesverfassungsgeric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B8AF-015C-445F-845F-76E4C6845C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60B0-9C4C-4556-A818-4A2BDA3EBEE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84" name="Picture 2" descr="Tòa án Hiến pháp Liên bang &amp;Dstrok;ức sẽ mất ít nhất hai tháng &amp;dstrok;ể quyết &amp;dstrok;ịnh liệu có ban hành lệnh &amp;dstrok;ình chỉ Cơ chế Bình ổn châu Âu (ESM)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90A8-3079-4C13-9417-3FBEBB5DA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E209-0E05-4AFC-9663-59F8EE6ACEAF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ủ tịch nướ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iện kiểm sát nhân dân tối ca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0" name="Picture 6" descr="http://brt.com.vn/mediastore/BRVT/2012/09/06/QH.jpg"/>
          <p:cNvPicPr/>
          <p:nvPr/>
        </p:nvPicPr>
        <p:blipFill>
          <a:blip r:embed="rId1"/>
          <a:stretch/>
        </p:blipFill>
        <p:spPr>
          <a:xfrm>
            <a:off x="5867280" y="2990880"/>
            <a:ext cx="2819520" cy="24955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91" name="Rectangle 3"/>
          <p:cNvSpPr/>
          <p:nvPr/>
        </p:nvSpPr>
        <p:spPr>
          <a:xfrm>
            <a:off x="457200" y="990720"/>
            <a:ext cx="82296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hủy bỏ 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2" name="Down Arrow 8"/>
          <p:cNvSpPr/>
          <p:nvPr/>
        </p:nvSpPr>
        <p:spPr>
          <a:xfrm>
            <a:off x="3241800" y="1600200"/>
            <a:ext cx="27018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1DB6-A773-4D09-8EAF-2280EEDBB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F2A8-168A-4682-8FDE-8EC38E9F814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95" name="Picture 2" descr="http://www.na.gov.vn/SodoQH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C975-030D-4BDF-886E-27552ADF3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505F-58AA-4D95-AF4D-19FF678FCE5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5105520" cy="3809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iện kiểm sát nhân dân tối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đồng nhân dân t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1" name="Picture 6" descr="http://media.tinmoi.vn/2012/04/11/84_7_1334109415_19_vu%2071334108234_340x250.jpg"/>
          <p:cNvPicPr/>
          <p:nvPr/>
        </p:nvPicPr>
        <p:blipFill>
          <a:blip r:embed="rId1"/>
          <a:stretch/>
        </p:blipFill>
        <p:spPr>
          <a:xfrm>
            <a:off x="5638680" y="990720"/>
            <a:ext cx="304812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02" name="Rectangle 3"/>
          <p:cNvSpPr/>
          <p:nvPr/>
        </p:nvSpPr>
        <p:spPr>
          <a:xfrm>
            <a:off x="457200" y="990720"/>
            <a:ext cx="5105520" cy="1295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hủy bỏ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Down Arrow 8"/>
          <p:cNvSpPr/>
          <p:nvPr/>
        </p:nvSpPr>
        <p:spPr>
          <a:xfrm>
            <a:off x="2133720" y="2286000"/>
            <a:ext cx="167616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1E0D-C410-43E1-9C34-3D294ACDE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D947-5FBB-4D65-965C-A3EC7796924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4114800" cy="2895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ộ trưở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rưởng Cơ quan ngang B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Horizontal Scroll 5"/>
          <p:cNvSpPr/>
          <p:nvPr/>
        </p:nvSpPr>
        <p:spPr>
          <a:xfrm>
            <a:off x="304920" y="7632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09" name="Picture 8" descr="http://vovradio.vn/webmedia/RadioArticle/2437/7.jpg"/>
          <p:cNvPicPr/>
          <p:nvPr/>
        </p:nvPicPr>
        <p:blipFill>
          <a:blip r:embed="rId1"/>
          <a:stretch/>
        </p:blipFill>
        <p:spPr>
          <a:xfrm>
            <a:off x="4876920" y="914400"/>
            <a:ext cx="3809880" cy="54100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0" name="Rectangle 3"/>
          <p:cNvSpPr/>
          <p:nvPr/>
        </p:nvSpPr>
        <p:spPr>
          <a:xfrm>
            <a:off x="457200" y="990720"/>
            <a:ext cx="4114800" cy="1904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ó quyền bãi bỏ, đình chỉ thi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ăn bản QPPL củ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Down Arrow 8"/>
          <p:cNvSpPr/>
          <p:nvPr/>
        </p:nvSpPr>
        <p:spPr>
          <a:xfrm>
            <a:off x="1546200" y="2895480"/>
            <a:ext cx="18828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33A1-348F-4E42-9E68-035D6D88F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5C2-FD5B-4173-BB8D-520D739E8B1E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447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 ban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 cấp tr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6" name="Horizontal Scroll 5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HỦY BỎ VĂN BẢN TƯ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4267080"/>
            <a:ext cx="8229600" cy="2057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, tổ chức ban hà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ơ quan, tổ chức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nhân dâ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Horizontal Scroll 7"/>
          <p:cNvSpPr/>
          <p:nvPr/>
        </p:nvSpPr>
        <p:spPr>
          <a:xfrm>
            <a:off x="304920" y="2895480"/>
            <a:ext cx="8458200" cy="1524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HỦY BỎ VĂN BẢN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A155-64E0-4048-953E-96014F1EDF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5"/>
          <p:cNvSpPr/>
          <p:nvPr/>
        </p:nvSpPr>
        <p:spPr>
          <a:xfrm>
            <a:off x="457200" y="6245280"/>
            <a:ext cx="312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B049-6841-488B-9F51-1EAB736DD43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ể thức văn bản do pháp luật quy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ĐÚNG THỂ THỨC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2286000"/>
            <a:ext cx="822960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ẩm quyền ban hành VB quy định bởi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iều lệ của tổ chứ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5" name="Horizontal Scroll 7"/>
          <p:cNvSpPr/>
          <p:nvPr/>
        </p:nvSpPr>
        <p:spPr>
          <a:xfrm>
            <a:off x="304920" y="1523880"/>
            <a:ext cx="8458200" cy="838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3. ĐÚNG THẨM QUYỀ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ù hợp lĩnh vực, đối tượng điều chỉnh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ăn cứ điều kiện thực tế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7" name="Horizontal Scroll 9"/>
          <p:cNvSpPr/>
          <p:nvPr/>
        </p:nvSpPr>
        <p:spPr>
          <a:xfrm>
            <a:off x="304920" y="41911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4. BẢO ĐẢM TÍNH KHẢ TH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E5CE-9200-4D2D-B444-B930DD1A3C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9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317F-1EE0-440B-9364-756CA68483A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Xác địn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Mục đích, đối tượng của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ên loại &amp; nội dung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uẩn bị dữ kiện (thu thập &amp; xử lý thông tin) cho nội dung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ánh giá tác động (tích cực, tiêu cực) của VB 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2" name="Horizontal Scroll 5"/>
          <p:cNvSpPr/>
          <p:nvPr/>
        </p:nvSpPr>
        <p:spPr>
          <a:xfrm>
            <a:off x="304920" y="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RÌNH TỰ SOẠN THẢO &amp;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Horizontal Scroll 7"/>
          <p:cNvSpPr/>
          <p:nvPr/>
        </p:nvSpPr>
        <p:spPr>
          <a:xfrm>
            <a:off x="380880" y="1371600"/>
            <a:ext cx="419112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CHUẨN BỊ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3022-5EC6-4428-9D8A-42574F8C7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5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905A-6C0E-4A6D-AC4C-93D7E690DDA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óm tắt các ý chính của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ựa chọn thông tin để đưa vào các phần của V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. XÂY DỰNG ĐỀ CƯƠ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Horizontal Scroll 6"/>
          <p:cNvSpPr/>
          <p:nvPr/>
        </p:nvSpPr>
        <p:spPr>
          <a:xfrm>
            <a:off x="304920" y="3352680"/>
            <a:ext cx="8458200" cy="838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3. VIẾT DỰ THẢO NỘI DU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57200" y="4191120"/>
            <a:ext cx="822960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ựa vào đề cương và mẫu V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D975-7794-4018-A5F2-542C519CE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2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B1DC-B762-4688-BC7E-CC715B54709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518148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lãnh đạo duyệt V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cần duyệt: Thẩm quyền, thể thức, nội dung, mục đích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người duyệt ghi: Duyệt, số bản ban hành, ngày duyệt, chữ k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5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4. DUYỆT &amp; KÝ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46" name="Picture 6" descr="http://tieuchuanchatluong.com/media/70/images/Xin%20cong%20van%20giai%20toa%20lo%20hang.jpg"/>
          <p:cNvPicPr/>
          <p:nvPr/>
        </p:nvPicPr>
        <p:blipFill>
          <a:blip r:embed="rId1"/>
          <a:stretch/>
        </p:blipFill>
        <p:spPr>
          <a:xfrm>
            <a:off x="5715000" y="914400"/>
            <a:ext cx="2971800" cy="5334120"/>
          </a:xfrm>
          <a:prstGeom prst="rect">
            <a:avLst/>
          </a:prstGeom>
          <a:ln w="0">
            <a:noFill/>
          </a:ln>
        </p:spPr>
      </p:pic>
      <p:sp>
        <p:nvSpPr>
          <p:cNvPr id="247" name="Oval 7"/>
          <p:cNvSpPr/>
          <p:nvPr/>
        </p:nvSpPr>
        <p:spPr>
          <a:xfrm>
            <a:off x="5105520" y="5715000"/>
            <a:ext cx="457200" cy="533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574C-CB64-4EA3-88E9-3FCDF9AF9D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6103-8E54-494B-8410-39155E7C5B7D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6B62-4F37-438B-B067-BD27384A5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2EFC-6F86-46F7-9253-BBFF3419FEAB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8083-F24E-41E8-897C-7724788FF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2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F67A-9F47-475D-A6D4-DCC7F04EC05A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Bevel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944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80880" y="1905120"/>
            <a:ext cx="8382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QUY TRÌNH SOẠN THẢO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29"/>
                </a:solidFill>
                <a:latin typeface="Times New Roman"/>
              </a:rPr>
              <a:t>&amp; BAN HÀNH VĂN BẢN</a:t>
            </a:r>
            <a:endParaRPr b="1" lang="en-US" sz="3200" spc="1" strike="noStrike">
              <a:ln w="0">
                <a:noFill/>
              </a:ln>
              <a:solidFill>
                <a:srgbClr val="000029"/>
              </a:solidFill>
              <a:latin typeface="Times New Roman"/>
              <a:ea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590920" y="60948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ương 8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6" name="Minus 10"/>
          <p:cNvSpPr/>
          <p:nvPr/>
        </p:nvSpPr>
        <p:spPr>
          <a:xfrm>
            <a:off x="2666880" y="1371600"/>
            <a:ext cx="3657600" cy="30492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28600" y="4952880"/>
            <a:ext cx="86868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Số tiết giảng: 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ự học: 4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47E8-7D81-483F-95D3-E1B5D01D7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9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2938-CEA2-49F0-84A4-14F14BC59FE0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văn bản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: Có </a:t>
            </a:r>
            <a:r>
              <a:rPr b="1" i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ữ ký trực tiếp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ủa người có thẩm quyền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là cơ sở pháp lý để hình thành bản chí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chính văn bản: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Không có </a:t>
            </a:r>
            <a:r>
              <a:rPr b="1" i="1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hữ ký trực tiếp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ủa người có thẩm quyền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2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.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B6B5-69C3-41E4-8AB1-B7BAB3B7C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4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1420-4C3C-4821-9CC7-2D8AC85972F3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óng dấ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ào Sổ công văn đ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hát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Lưu văn bả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gốc lưu tại Văn th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AU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n chính lưu trong hồ s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eo dõi việc thực hiệ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ể kịp thời điều chỉ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Rút kinh ngh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7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. BAN HÀNH VĂN BẢ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Y TRÌNH SOẠN THẢO &amp; BAN HÀNH VĂN BẢN – Q. TÂY HỒ, HÀ N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4978-26C6-46A8-ACCA-A21C0A824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0BE3-BCE7-468E-AC54-BE972964A24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61" name="Picture 2" descr="http://tayho.gov.vn/cgtdt/web/images/upload1/image/2007-09-05_09384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9F4D-95BF-4DE0-91E1-AE559C327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8D21-288D-4EF7-BD5B-014A764D32D7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yêu cầu đối với việc soạn thảo và ban hành văn bả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Nêu các bước soạn thảo và ban hành văn bả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6" name="Horizontal Scroll 6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246C-CCE9-4704-B633-C0DE36A16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Date Placeholder 5"/>
          <p:cNvSpPr/>
          <p:nvPr/>
        </p:nvSpPr>
        <p:spPr>
          <a:xfrm>
            <a:off x="457200" y="6245280"/>
            <a:ext cx="312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2766-EAB9-4F3C-9EE4-9D61F7D11CFC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29"/>
                </a:solidFill>
                <a:uFillTx/>
                <a:latin typeface="Times New Roman"/>
                <a:ea typeface="Times New Roman"/>
              </a:rPr>
              <a:t>Câu 1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ấn đề nào sau đây không phải là nguyên tắc xây dựng, ban hành văn bản QPP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A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Đảm bảo tính hợp hiến, hợp phá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Tuân thủ thẩm quyề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C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Có hiệu lực chậm nhất 15 ngày sau ngày được thông qua, công bố ban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.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Bảo đảm tính khả th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Horizontal Scroll 5"/>
          <p:cNvSpPr/>
          <p:nvPr/>
        </p:nvSpPr>
        <p:spPr>
          <a:xfrm>
            <a:off x="304920" y="76320"/>
            <a:ext cx="845820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45BE-EAE1-4928-84EE-265EDFBD2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Date Placeholder 2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D0BC-E897-4839-92BB-DCB4D5DC4471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" y="1066680"/>
            <a:ext cx="41148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Principles text edi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Drafting process &amp; issue document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2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OF THE LECTUR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3" name="Picture 6" descr="http://r-img.com/books/shr/5/huong-dan-ky-thuat-quy-trinh-soan-thao-van-ban-hop-dong-va-cac-mau-thong-dung-moi-nhat.gif"/>
          <p:cNvPicPr/>
          <p:nvPr/>
        </p:nvPicPr>
        <p:blipFill>
          <a:blip r:embed="rId1"/>
          <a:stretch/>
        </p:blipFill>
        <p:spPr>
          <a:xfrm>
            <a:off x="4572000" y="1066680"/>
            <a:ext cx="411480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A437-16A4-4984-9FC0-AEB93CEEF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CBB9-3052-46B0-887C-82B58002206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1148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uyên tắc soạn thảo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ình tự soạn thảo &amp; ban hành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39" name="Picture 6" descr="http://r-img.com/books/shr/5/huong-dan-ky-thuat-quy-trinh-soan-thao-van-ban-hop-dong-va-cac-mau-thong-dung-moi-nhat.gif"/>
          <p:cNvPicPr/>
          <p:nvPr/>
        </p:nvPicPr>
        <p:blipFill>
          <a:blip r:embed="rId1"/>
          <a:stretch/>
        </p:blipFill>
        <p:spPr>
          <a:xfrm>
            <a:off x="4572000" y="1066680"/>
            <a:ext cx="411480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AE93-7CF2-4308-8AB6-5D8753D5C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C6FE-FC7E-48B4-AACD-A07B344927C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441972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QPPL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quy phạm pháp luậ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HC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TP: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Văn bản tư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ttp://minhkhai.vn/hinhlon/119162.jpg"/>
          <p:cNvPicPr/>
          <p:nvPr/>
        </p:nvPicPr>
        <p:blipFill>
          <a:blip r:embed="rId1"/>
          <a:stretch/>
        </p:blipFill>
        <p:spPr>
          <a:xfrm>
            <a:off x="4952880" y="1066680"/>
            <a:ext cx="3733920" cy="52578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4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H MỤC TỪ VIẾT TẮ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9985-CEE2-46A0-8747-D1F31E539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A03B-F586-4D90-83F9-9924447158F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48" name="Picture 6" descr="http://minhkhai.vn/hinhlon/101104.jpg"/>
          <p:cNvPicPr/>
          <p:nvPr/>
        </p:nvPicPr>
        <p:blipFill>
          <a:blip r:embed="rId1"/>
          <a:stretch/>
        </p:blipFill>
        <p:spPr>
          <a:xfrm>
            <a:off x="5943600" y="1143000"/>
            <a:ext cx="2743200" cy="51814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NGUYÊN TẮC SOẠN T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ound Diagonal Corner Rectangle 9"/>
          <p:cNvSpPr/>
          <p:nvPr/>
        </p:nvSpPr>
        <p:spPr>
          <a:xfrm>
            <a:off x="457200" y="114300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457200" y="114300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Round Diagonal Corner Rectangle 12"/>
          <p:cNvSpPr/>
          <p:nvPr/>
        </p:nvSpPr>
        <p:spPr>
          <a:xfrm>
            <a:off x="457200" y="220968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úng thể thứ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457200" y="2209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Round Diagonal Corner Rectangle 14"/>
          <p:cNvSpPr/>
          <p:nvPr/>
        </p:nvSpPr>
        <p:spPr>
          <a:xfrm>
            <a:off x="457200" y="327672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Đúng thẩm quyề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Oval 15"/>
          <p:cNvSpPr/>
          <p:nvPr/>
        </p:nvSpPr>
        <p:spPr>
          <a:xfrm>
            <a:off x="457200" y="327672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Round Diagonal Corner Rectangle 16"/>
          <p:cNvSpPr/>
          <p:nvPr/>
        </p:nvSpPr>
        <p:spPr>
          <a:xfrm>
            <a:off x="457200" y="434340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Khả th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8" name="Oval 17"/>
          <p:cNvSpPr/>
          <p:nvPr/>
        </p:nvSpPr>
        <p:spPr>
          <a:xfrm>
            <a:off x="457200" y="434340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9" name="Round Diagonal Corner Rectangle 18"/>
          <p:cNvSpPr/>
          <p:nvPr/>
        </p:nvSpPr>
        <p:spPr>
          <a:xfrm>
            <a:off x="457200" y="5410080"/>
            <a:ext cx="5410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gôn ngữ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Oval 19"/>
          <p:cNvSpPr/>
          <p:nvPr/>
        </p:nvSpPr>
        <p:spPr>
          <a:xfrm>
            <a:off x="457200" y="5410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0FF3-C172-4C4C-9706-AF067421D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Date Placeholder 2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23F3-A849-4FCA-9E0C-A5F66CDE671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63" name="Picture 8" descr="http://daibieunhandan.vn/media/13/01/130131185740687/05-Tham-quyen-322013-380.jpg"/>
          <p:cNvPicPr/>
          <p:nvPr/>
        </p:nvPicPr>
        <p:blipFill>
          <a:blip r:embed="rId1"/>
          <a:stretch/>
        </p:blipFill>
        <p:spPr>
          <a:xfrm>
            <a:off x="5867280" y="1066680"/>
            <a:ext cx="2819520" cy="53341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64" name="Rectangle 3"/>
          <p:cNvSpPr/>
          <p:nvPr/>
        </p:nvSpPr>
        <p:spPr>
          <a:xfrm>
            <a:off x="457200" y="1066680"/>
            <a:ext cx="53341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phải phù hợp nguyên tắc của Hiến pháp &amp; quy định của pháp luật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o đảm tính thống nhất, thứ bậc hiệu lực pháp lý trong hệ thống pháp luật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 cấp dưới không trái VB cấp tr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Horizontal Scroll 6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5181480" y="5715000"/>
            <a:ext cx="533520" cy="6094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NI-Time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0391-60FA-4886-B506-17097224B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347C-F5BA-4BC0-BB30-0621E5B2CE96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53341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Nội dung phải phù hợp nguyên tắc của Hiến pháp &amp; quy định của pháp lu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Bảo đảm tính thống nhất, thứ bậc hiệu lực pháp lý trong hệ thống pháp luậ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VB cấp dưới không trái VB cấp tr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Horizontal Scroll 5"/>
          <p:cNvSpPr/>
          <p:nvPr/>
        </p:nvSpPr>
        <p:spPr>
          <a:xfrm>
            <a:off x="304920" y="7632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HỢP HIẾN &amp; HỢP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73" name="Picture 10" descr="http://t0.gstatic.com/images?q=tbn:ANd9GcT4MQ9uGoOYoJ5fe1jBdPRf1eWWdneyY8L4S_YRCAL_k_pvuWY2"/>
          <p:cNvPicPr/>
          <p:nvPr/>
        </p:nvPicPr>
        <p:blipFill>
          <a:blip r:embed="rId1"/>
          <a:stretch/>
        </p:blipFill>
        <p:spPr>
          <a:xfrm>
            <a:off x="5924520" y="1066680"/>
            <a:ext cx="2762280" cy="533412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9CE9-084C-4CC5-9718-FF6084ABF8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0054-2279-4A2A-96A3-ABB92EF3F8C2}" type="datetime2">
              <a:rPr b="0" lang="en-US" sz="1200" spc="-1" strike="noStrike">
                <a:solidFill>
                  <a:srgbClr val="000000"/>
                </a:solidFill>
                <a:latin typeface="Arial"/>
              </a:rPr>
              <a:t>Wednesday, 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09680" y="1599840"/>
            <a:ext cx="6477120" cy="2133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Ủy ban Thường vụ Quốc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hủ tướng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4038480"/>
            <a:ext cx="8153280" cy="2362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rong tương lai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HỘI ĐỒNG BẢO HIẾ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Times New Roman"/>
                <a:ea typeface="Times New Roman"/>
              </a:rPr>
              <a:t>TÒA ÁN HIẾN PHÁ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Curved Right Arrow 7"/>
          <p:cNvSpPr/>
          <p:nvPr/>
        </p:nvSpPr>
        <p:spPr>
          <a:xfrm rot="19934400">
            <a:off x="542880" y="1260000"/>
            <a:ext cx="1341360" cy="2054520"/>
          </a:xfrm>
          <a:custGeom>
            <a:avLst/>
            <a:gdLst>
              <a:gd name="textAreaLeft" fmla="*/ 179640 w 1341360"/>
              <a:gd name="textAreaRight" fmla="*/ 1161720 w 1341360"/>
              <a:gd name="textAreaTop" fmla="*/ 387720 h 2054520"/>
              <a:gd name="textAreaBottom" fmla="*/ 1499040 h 20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6" stAng="-5400000" swAng="-5400000"/>
                <a:lnTo>
                  <a:pt x="0" y="11682"/>
                </a:lnTo>
                <a:arcTo wR="21600" hR="8156" stAng="10800000" swAng="-3338134"/>
                <a:lnTo>
                  <a:pt x="16200" y="21341"/>
                </a:lnTo>
                <a:lnTo>
                  <a:pt x="21600" y="18075"/>
                </a:lnTo>
                <a:lnTo>
                  <a:pt x="16200" y="14291"/>
                </a:lnTo>
                <a:lnTo>
                  <a:pt x="16200" y="16053"/>
                </a:lnTo>
                <a:arcTo wR="21600" hR="8156" stAng="7461866" swAng="3051416"/>
                <a:lnTo>
                  <a:pt x="511" y="9919"/>
                </a:lnTo>
                <a:arcTo wR="21600" hR="8156" stAng="-10513282" swAng="5113282"/>
                <a:close/>
              </a:path>
              <a:path fill="darkenLess" w="21600" h="21600">
                <a:moveTo>
                  <a:pt x="21600" y="0"/>
                </a:moveTo>
                <a:arcTo wR="21600" hR="8156" stAng="-5400000" swAng="-5400000"/>
                <a:lnTo>
                  <a:pt x="0" y="8156"/>
                </a:lnTo>
                <a:arcTo wR="21600" hR="8156" stAng="10800000" swAng="-286718"/>
                <a:lnTo>
                  <a:pt x="511" y="9919"/>
                </a:lnTo>
                <a:arcTo wR="21600" hR="8156" stAng="-10513282" swAng="5113282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Horizontal Scroll 8"/>
          <p:cNvSpPr/>
          <p:nvPr/>
        </p:nvSpPr>
        <p:spPr>
          <a:xfrm>
            <a:off x="304920" y="76320"/>
            <a:ext cx="8458200" cy="15238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ẨM QUYỀN BÃI BỎ VĂN BẢN QPPL VI HIẾ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3-10-14T09:40:35Z</dcterms:modified>
  <cp:revision>264</cp:revision>
  <dc:subject/>
  <dc:title>Chương 8</dc:title>
</cp:coreProperties>
</file>